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22D-AA78-4A5F-8AF7-E9F6449D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FB7-F17A-4610-8D95-C99713D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B29-5E07-483E-9F20-89153FA0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2D6-43C8-42D2-90A7-D20B51A3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557-6621-476C-A079-E406D33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D8D-4715-4FEB-9ABD-92683F0D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942-B9E1-47F7-B135-B47C1730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F6E-1C27-4EB0-BEE1-8DE6103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BDC-9981-4C2B-ADD1-E5695F2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7C5-9B1E-4254-94B0-D5908F6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90E-0D48-4186-BC4E-35B58A6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13C-C5D9-436C-8A3A-4054050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AFE-E8CF-4556-B117-80DB475C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Like Where I 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440" y="32767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4*Week 4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BD07193_0000[1]"/>
          <p:cNvPicPr/>
          <p:nvPr/>
        </p:nvPicPr>
        <p:blipFill>
          <a:blip r:embed="rId1"/>
          <a:stretch/>
        </p:blipFill>
        <p:spPr>
          <a:xfrm>
            <a:off x="228600" y="2743200"/>
            <a:ext cx="32814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819520" y="304920"/>
            <a:ext cx="56386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got up early so I could enjoy a full game of football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743200" y="1066680"/>
            <a:ext cx="601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I need to warm a cup of milk and boil the pudding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3200" y="304920"/>
            <a:ext cx="5943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Look, one of my eyes has a cut underneath it.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819520" y="304920"/>
            <a:ext cx="5638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819520" y="914400"/>
            <a:ext cx="60195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Impact"/>
              </a:rPr>
              <a:t>You must put the pail of water and the pile of wood near the soil for the garden.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95480" y="685800"/>
            <a:ext cx="563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Impact"/>
              </a:rPr>
              <a:t>“</a:t>
            </a:r>
            <a:r>
              <a:rPr b="0" lang="en-US" sz="7200" spc="-1" strike="noStrike">
                <a:solidFill>
                  <a:srgbClr val="006600"/>
                </a:solidFill>
                <a:latin typeface="Impact"/>
              </a:rPr>
              <a:t>That cookie is full of sugar,” said Uncle Gus in a playful voice.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MCBD07193_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235240" cy="260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971800" y="990720"/>
            <a:ext cx="56386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Impact"/>
              </a:rPr>
              <a:t>Last summer some boys and I took care of a bulldog and other animals.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8120" y="45720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1:14:02Z</dcterms:created>
  <dc:creator>llefever</dc:creator>
  <dc:description/>
  <dc:language>en-US</dc:language>
  <cp:lastModifiedBy>teacher</cp:lastModifiedBy>
  <dcterms:modified xsi:type="dcterms:W3CDTF">2011-01-20T16:00:34Z</dcterms:modified>
  <cp:revision>3</cp:revision>
  <dc:subject/>
  <dc:title>I Like Where I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169833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